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3CB-ADE2-4D97-8577-7F0BD502C9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C78-B2B9-4415-88C9-A935C648A3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3E6-274B-4697-9240-BC64323C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E21-4C1F-488A-8023-8871CA6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E67-ECF7-4143-98EB-966151B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A56-CCF2-485E-9EF0-3D627891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8F8-B6E0-4AF4-9C1F-7A50C4E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4C5-18C9-41C9-B8AE-8162A02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945-1E2A-489E-A048-18B3D37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055-BFA0-40DF-8035-BBD07259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B37-5695-4180-85C1-41C1BAF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BDE-DEF1-4AA1-B00D-A9B8235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7E9-39E5-4903-9B55-3E6182A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2A6-4811-40A5-A5BE-67926EB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85fb"/>
            </a:gs>
            <a:gs pos="50000">
              <a:srgbClr val="c1d0ff"/>
            </a:gs>
            <a:gs pos="100000">
              <a:srgbClr val="998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853-635F-48D0-800F-3923959884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Ленино-Кокушкинская СОШ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:  «Какие налоги мы плати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: 8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обществознания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дубаева Гузель Миндияровн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7505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Из школьных сочин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1219320"/>
            <a:ext cx="7543800" cy="1618560"/>
          </a:xfrm>
          <a:prstGeom prst="rect">
            <a:avLst/>
          </a:prstGeom>
          <a:solidFill>
            <a:srgbClr val="f9e1c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Чем больше денег в казне, тем богаче наша школа. У нас будет много новых компьютеров и интересных книг. У нас будет большой читальный зал и плавательный бассейн. Мы будем часто ездить на экскурсии, в театры, в цир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0880" y="4952880"/>
            <a:ext cx="7620120" cy="16185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Если все люди будут честно платить налоги, то наш город и наша страна будут богатыми, а люди счастливыми. Наши деды и бабушки будут получать большую пенсию. Ведь они заслужили ее за свою долгую жизн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47920" y="3124080"/>
            <a:ext cx="7315200" cy="13136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В стране будет сильная армия с пушками, танками, самолетами. Там никогда не будет аварий на подводных лодках. Солдаты будут сыты и хорошо одеты. На такую страну никогда не нападут враг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5640" y="1397160"/>
          <a:ext cx="4464000" cy="503064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А1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Б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9985fb"/>
                          </a:solidFill>
                          <a:latin typeface="Times New Roman"/>
                        </a:rPr>
                        <a:t>В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18720">
                      <a:solidFill>
                        <a:srgbClr val="9985f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2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1872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3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3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4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4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-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- 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5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6 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6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+-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9985fb"/>
                      </a:solidFill>
                    </a:lnL>
                    <a:lnR w="5760">
                      <a:solidFill>
                        <a:srgbClr val="9985fb"/>
                      </a:solidFill>
                    </a:lnR>
                    <a:lnT w="5760">
                      <a:solidFill>
                        <a:srgbClr val="9985fb"/>
                      </a:solidFill>
                    </a:lnT>
                    <a:lnB w="5760">
                      <a:solidFill>
                        <a:srgbClr val="9985fb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1316160" y="19080"/>
            <a:ext cx="6797520" cy="14810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5168880" y="1238400"/>
            <a:ext cx="3878280" cy="22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258920" y="620640"/>
            <a:ext cx="662616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вен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ход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циз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Д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говая ставка 13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пенд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ны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портный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еты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00, 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685800" y="10666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логи - принудительные  периодические платежи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аждан из их имуществ и доходов, идущие на 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ужды государства и общества и установленные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законодательном порядке.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29718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ловарь Брокгауза и Эф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80880" y="3429000"/>
            <a:ext cx="533520" cy="2837160"/>
          </a:xfrm>
          <a:prstGeom prst="rect">
            <a:avLst/>
          </a:prstGeom>
          <a:gradFill rotWithShape="0">
            <a:gsLst>
              <a:gs pos="0">
                <a:srgbClr val="9985fb"/>
              </a:gs>
              <a:gs pos="50000">
                <a:srgbClr val="ded8f6"/>
              </a:gs>
              <a:gs pos="100000">
                <a:srgbClr val="9985fb"/>
              </a:gs>
            </a:gsLst>
            <a:lin ang="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на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066680" y="3962520"/>
            <a:ext cx="7696440" cy="1922760"/>
          </a:xfrm>
          <a:prstGeom prst="rect">
            <a:avLst/>
          </a:prstGeom>
          <a:gradFill rotWithShape="0">
            <a:gsLst>
              <a:gs pos="0">
                <a:srgbClr val="c9bffd"/>
              </a:gs>
              <a:gs pos="50000">
                <a:srgbClr val="e7dff7"/>
              </a:gs>
              <a:gs pos="100000">
                <a:srgbClr val="c9bffd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1) Часть доходов граждан и пред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2) Носит принудительный характер.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3) Выплата периодическ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4) Выплата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5) Определяется закон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3048120" y="304920"/>
            <a:ext cx="297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лог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31"/>
          <p:cNvGrpSpPr/>
          <p:nvPr/>
        </p:nvGrpSpPr>
        <p:grpSpPr>
          <a:xfrm>
            <a:off x="609480" y="4419720"/>
            <a:ext cx="2019600" cy="2058840"/>
            <a:chOff x="609480" y="4419720"/>
            <a:chExt cx="2019600" cy="2058840"/>
          </a:xfrm>
        </p:grpSpPr>
        <p:pic>
          <p:nvPicPr>
            <p:cNvPr id="63" name="Picture 25" descr="C:\Program Files\Common Files\Microsoft Shared\Clipart\cagcat50\PE01616_.wmf"/>
            <p:cNvPicPr/>
            <p:nvPr/>
          </p:nvPicPr>
          <p:blipFill>
            <a:blip r:embed="rId1"/>
            <a:stretch/>
          </p:blipFill>
          <p:spPr>
            <a:xfrm>
              <a:off x="609480" y="5334120"/>
              <a:ext cx="12193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AutoShape 26"/>
            <p:cNvSpPr/>
            <p:nvPr/>
          </p:nvSpPr>
          <p:spPr>
            <a:xfrm rot="18294600">
              <a:off x="1595160" y="48146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WordArt 29"/>
            <p:cNvSpPr txBox="1"/>
            <p:nvPr/>
          </p:nvSpPr>
          <p:spPr>
            <a:xfrm>
              <a:off x="1295280" y="4419720"/>
              <a:ext cx="133380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рямо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6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867280" y="1371600"/>
            <a:ext cx="186084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осв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447920" y="1447920"/>
            <a:ext cx="1860480" cy="457200"/>
          </a:xfrm>
          <a:prstGeom prst="rect">
            <a:avLst/>
          </a:prstGeom>
          <a:gradFill rotWithShape="0">
            <a:gsLst>
              <a:gs pos="0">
                <a:srgbClr val="c2e3f6"/>
              </a:gs>
              <a:gs pos="50000">
                <a:srgbClr val="6cc6e2"/>
              </a:gs>
              <a:gs pos="100000">
                <a:srgbClr val="c2e3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9"/>
          <p:cNvSpPr/>
          <p:nvPr/>
        </p:nvSpPr>
        <p:spPr>
          <a:xfrm flipH="1" rot="18917400">
            <a:off x="3429000" y="121896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"/>
          <p:cNvSpPr/>
          <p:nvPr/>
        </p:nvSpPr>
        <p:spPr>
          <a:xfrm flipH="1" rot="13548600">
            <a:off x="5370840" y="1256760"/>
            <a:ext cx="457200" cy="38160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600"/>
              <a:gd name="textAreaBottom" fmla="*/ 286200 h 38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4"/>
          <p:cNvSpPr/>
          <p:nvPr/>
        </p:nvSpPr>
        <p:spPr>
          <a:xfrm rot="10809600">
            <a:off x="378720" y="2552760"/>
            <a:ext cx="3352680" cy="1751040"/>
          </a:xfrm>
          <a:prstGeom prst="wedgeEllipseCallout">
            <a:avLst>
              <a:gd name="adj1" fmla="val -31152"/>
              <a:gd name="adj2" fmla="val 8499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доходов физических и юридических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8"/>
          <p:cNvSpPr/>
          <p:nvPr/>
        </p:nvSpPr>
        <p:spPr>
          <a:xfrm rot="10809600">
            <a:off x="5866560" y="2511000"/>
            <a:ext cx="3049560" cy="1752840"/>
          </a:xfrm>
          <a:prstGeom prst="wedgeEllipseCallout">
            <a:avLst>
              <a:gd name="adj1" fmla="val 41291"/>
              <a:gd name="adj2" fmla="val 85837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алог, взимаемый с товаров и видов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2"/>
          <p:cNvGrpSpPr/>
          <p:nvPr/>
        </p:nvGrpSpPr>
        <p:grpSpPr>
          <a:xfrm>
            <a:off x="3733920" y="3809880"/>
            <a:ext cx="2895480" cy="2896920"/>
            <a:chOff x="3733920" y="3809880"/>
            <a:chExt cx="2895480" cy="2896920"/>
          </a:xfrm>
        </p:grpSpPr>
        <p:pic>
          <p:nvPicPr>
            <p:cNvPr id="75" name="Picture 21" descr="C:\Program Files\Common Files\Microsoft Shared\Clipart\cagcat50\PE01616_.wmf"/>
            <p:cNvPicPr/>
            <p:nvPr/>
          </p:nvPicPr>
          <p:blipFill>
            <a:blip r:embed="rId2"/>
            <a:stretch/>
          </p:blipFill>
          <p:spPr>
            <a:xfrm>
              <a:off x="3733920" y="5562360"/>
              <a:ext cx="121896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4" descr="C:\Program Files\Common Files\Microsoft Shared\Clipart\cagcat50\TN00332_.wmf"/>
            <p:cNvPicPr/>
            <p:nvPr/>
          </p:nvPicPr>
          <p:blipFill>
            <a:blip r:embed="rId3"/>
            <a:stretch/>
          </p:blipFill>
          <p:spPr>
            <a:xfrm>
              <a:off x="5257800" y="4647960"/>
              <a:ext cx="1371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AutoShape 27"/>
            <p:cNvSpPr/>
            <p:nvPr/>
          </p:nvSpPr>
          <p:spPr>
            <a:xfrm rot="12590400">
              <a:off x="5257080" y="419004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28"/>
            <p:cNvSpPr/>
            <p:nvPr/>
          </p:nvSpPr>
          <p:spPr>
            <a:xfrm rot="19517400">
              <a:off x="4876920" y="5485680"/>
              <a:ext cx="593640" cy="368280"/>
            </a:xfrm>
            <a:custGeom>
              <a:avLst/>
              <a:gdLst>
                <a:gd name="textAreaLeft" fmla="*/ 74160 w 593640"/>
                <a:gd name="textAreaRight" fmla="*/ 519480 w 593640"/>
                <a:gd name="textAreaTop" fmla="*/ 92160 h 368280"/>
                <a:gd name="textAreaBottom" fmla="*/ 27648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WordArt 30"/>
            <p:cNvSpPr txBox="1"/>
            <p:nvPr/>
          </p:nvSpPr>
          <p:spPr>
            <a:xfrm>
              <a:off x="4343400" y="3809880"/>
              <a:ext cx="17146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косвенный налог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2400480" y="3049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налогов.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814920" y="914400"/>
            <a:ext cx="1512720" cy="839880"/>
          </a:xfrm>
          <a:prstGeom prst="ellipse">
            <a:avLst/>
          </a:prstGeom>
          <a:gradFill rotWithShape="0">
            <a:gsLst>
              <a:gs pos="0">
                <a:srgbClr val="91eaff"/>
              </a:gs>
              <a:gs pos="100000">
                <a:srgbClr val="bade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 flipH="1" rot="18917400">
            <a:off x="3047040" y="1447920"/>
            <a:ext cx="609480" cy="380880"/>
          </a:xfrm>
          <a:custGeom>
            <a:avLst/>
            <a:gdLst>
              <a:gd name="textAreaLeft" fmla="*/ 7596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 flipH="1" rot="13548600">
            <a:off x="5675760" y="1485360"/>
            <a:ext cx="609480" cy="381240"/>
          </a:xfrm>
          <a:custGeom>
            <a:avLst/>
            <a:gdLst>
              <a:gd name="textAreaLeft" fmla="*/ 7596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 flipH="1" rot="16290000">
            <a:off x="4304160" y="19047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161720" y="187812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Федер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12360" y="25909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773320" y="19051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 Black"/>
              </a:rPr>
              <a:t>Мес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762120" y="2819520"/>
            <a:ext cx="2133360" cy="2361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400800" y="2895480"/>
            <a:ext cx="198108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оро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райо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543480" y="3809880"/>
            <a:ext cx="2057400" cy="2362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ступ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у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5"/>
          <p:cNvSpPr/>
          <p:nvPr/>
        </p:nvSpPr>
        <p:spPr>
          <a:xfrm flipH="1" rot="16290000">
            <a:off x="4304160" y="323820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6"/>
          <p:cNvSpPr/>
          <p:nvPr/>
        </p:nvSpPr>
        <p:spPr>
          <a:xfrm flipH="1" rot="16290000">
            <a:off x="6628680" y="2438280"/>
            <a:ext cx="533160" cy="380880"/>
          </a:xfrm>
          <a:custGeom>
            <a:avLst/>
            <a:gdLst>
              <a:gd name="textAreaLeft" fmla="*/ 108000 w 533160"/>
              <a:gd name="textAreaRight" fmla="*/ 425160 w 53316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/>
          <p:cNvSpPr/>
          <p:nvPr/>
        </p:nvSpPr>
        <p:spPr>
          <a:xfrm flipH="1" rot="16290000">
            <a:off x="1751400" y="2361960"/>
            <a:ext cx="533520" cy="380880"/>
          </a:xfrm>
          <a:custGeom>
            <a:avLst/>
            <a:gdLst>
              <a:gd name="textAreaLeft" fmla="*/ 108000 w 533520"/>
              <a:gd name="textAreaRight" fmla="*/ 425520 w 533520"/>
              <a:gd name="textAreaTop" fmla="*/ 85320 h 380880"/>
              <a:gd name="textAreaBottom" fmla="*/ 295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4842"/>
                </a:moveTo>
                <a:lnTo>
                  <a:pt x="13655" y="4842"/>
                </a:lnTo>
                <a:lnTo>
                  <a:pt x="13655" y="0"/>
                </a:lnTo>
                <a:lnTo>
                  <a:pt x="21600" y="10800"/>
                </a:lnTo>
                <a:lnTo>
                  <a:pt x="13655" y="21600"/>
                </a:lnTo>
                <a:lnTo>
                  <a:pt x="13655" y="16758"/>
                </a:lnTo>
                <a:lnTo>
                  <a:pt x="0" y="16758"/>
                </a:lnTo>
                <a:lnTo>
                  <a:pt x="4383" y="10800"/>
                </a:lnTo>
                <a:lnTo>
                  <a:pt x="0" y="4842"/>
                </a:lnTo>
                <a:close/>
              </a:path>
            </a:pathLst>
          </a:custGeom>
          <a:solidFill>
            <a:srgbClr val="091fef"/>
          </a:solidFill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0"/>
          <p:cNvSpPr txBox="1"/>
          <p:nvPr/>
        </p:nvSpPr>
        <p:spPr>
          <a:xfrm>
            <a:off x="2814480" y="380880"/>
            <a:ext cx="351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ункции налогов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11"/>
          <p:cNvSpPr/>
          <p:nvPr/>
        </p:nvSpPr>
        <p:spPr>
          <a:xfrm flipH="1" rot="19902600">
            <a:off x="2589840" y="114264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3"/>
          <p:cNvSpPr/>
          <p:nvPr/>
        </p:nvSpPr>
        <p:spPr>
          <a:xfrm flipH="1" rot="13492200">
            <a:off x="5562360" y="1218600"/>
            <a:ext cx="838080" cy="48564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6"/>
          <p:cNvSpPr/>
          <p:nvPr/>
        </p:nvSpPr>
        <p:spPr>
          <a:xfrm flipV="1">
            <a:off x="914400" y="17524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иск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8"/>
          <p:cNvSpPr/>
          <p:nvPr/>
        </p:nvSpPr>
        <p:spPr>
          <a:xfrm flipV="1">
            <a:off x="3448080" y="2209680"/>
            <a:ext cx="224784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г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9"/>
          <p:cNvSpPr/>
          <p:nvPr/>
        </p:nvSpPr>
        <p:spPr>
          <a:xfrm flipV="1">
            <a:off x="6248520" y="1981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ffd7d7"/>
          </a:solidFill>
          <a:ln w="19080">
            <a:solidFill>
              <a:srgbClr val="0000ff"/>
            </a:solidFill>
            <a:miter/>
          </a:ln>
          <a:effectLst>
            <a:outerShdw dist="127008" dir="221609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имулир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0" descr="C:\Documents and Settings\User\My Documents\My Pictures\Налоги\Хлеб-поделись.JPG"/>
          <p:cNvPicPr/>
          <p:nvPr/>
        </p:nvPicPr>
        <p:blipFill>
          <a:blip r:embed="rId1"/>
          <a:srcRect l="4107" t="0" r="5216" b="3599"/>
          <a:stretch/>
        </p:blipFill>
        <p:spPr>
          <a:xfrm>
            <a:off x="3733920" y="3124080"/>
            <a:ext cx="1676160" cy="14479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1" name="Picture 25" descr="C:\Documents and Settings\User\My Documents\My Pictures\Налоги\Деньги-поделись.JPG"/>
          <p:cNvPicPr/>
          <p:nvPr/>
        </p:nvPicPr>
        <p:blipFill>
          <a:blip r:embed="rId2"/>
          <a:srcRect l="0" t="0" r="7924" b="0"/>
          <a:stretch/>
        </p:blipFill>
        <p:spPr>
          <a:xfrm>
            <a:off x="3693960" y="4876920"/>
            <a:ext cx="1754280" cy="142236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2" name="Picture 26" descr="C:\Documents and Settings\User\My Documents\My Pictures\Налоги\Сундук.JPG"/>
          <p:cNvPicPr/>
          <p:nvPr/>
        </p:nvPicPr>
        <p:blipFill>
          <a:blip r:embed="rId3"/>
          <a:srcRect l="12309" t="0" r="4621" b="0"/>
          <a:stretch/>
        </p:blipFill>
        <p:spPr>
          <a:xfrm>
            <a:off x="762120" y="3429000"/>
            <a:ext cx="2057400" cy="190512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pic>
        <p:nvPicPr>
          <p:cNvPr id="103" name="Picture 27" descr="C:\Program Files\Common Files\Microsoft Shared\Clipart\cagcat50\BD05158_.WMF"/>
          <p:cNvPicPr/>
          <p:nvPr/>
        </p:nvPicPr>
        <p:blipFill>
          <a:blip r:embed="rId4"/>
          <a:srcRect l="9172" t="12173" r="11257" b="15081"/>
          <a:stretch/>
        </p:blipFill>
        <p:spPr>
          <a:xfrm>
            <a:off x="6477120" y="3429000"/>
            <a:ext cx="1979640" cy="1828800"/>
          </a:xfrm>
          <a:prstGeom prst="rect">
            <a:avLst/>
          </a:prstGeom>
          <a:ln w="76320">
            <a:solidFill>
              <a:srgbClr val="3f0cd0"/>
            </a:solidFill>
            <a:miter/>
          </a:ln>
        </p:spPr>
      </p:pic>
      <p:sp>
        <p:nvSpPr>
          <p:cNvPr id="104" name="AutoShape 29"/>
          <p:cNvSpPr/>
          <p:nvPr/>
        </p:nvSpPr>
        <p:spPr>
          <a:xfrm flipH="1" rot="16192200">
            <a:off x="4152240" y="1395360"/>
            <a:ext cx="838080" cy="486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19080">
            <a:solidFill>
              <a:srgbClr val="ff0000"/>
            </a:solidFill>
            <a:miter/>
          </a:ln>
          <a:effectLst>
            <a:outerShdw dist="102298" dir="42449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632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иктимерова Л М</dc:creator>
  <dc:description/>
  <dc:language>en-US</dc:language>
  <cp:lastModifiedBy>Гузель</cp:lastModifiedBy>
  <dcterms:modified xsi:type="dcterms:W3CDTF">2020-04-07T17:30:23Z</dcterms:modified>
  <cp:revision>60</cp:revision>
  <dc:subject/>
  <dc:title>Презентация PowerPoint</dc:title>
</cp:coreProperties>
</file>